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DC6-B303-4DCF-9B2A-C3640A57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0A6-3FA0-4D49-8BFE-11E6CE33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89F-F888-4B4D-81D7-6B953D56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EAF-8B4D-4A5C-83A9-C4862E56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1E1-0801-469D-95CC-0B25DAEF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DE1-BE64-469D-87DF-08DB48C7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154-615F-403A-9894-898BDF2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ADB-87FD-48E4-ADAD-BA7D043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CAA-CDE0-4062-92B7-65EE4DAD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7A9-4C12-4FFE-B319-D1A4A8DE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45F-36D0-4DDF-8266-393BCE36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1C7-D6CD-4049-8B37-E34497A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02B2-B355-44F2-8C92-66B62B605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9280" y="189000"/>
            <a:ext cx="878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Значение на Съботата за човек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13000"/>
            <a:ext cx="565164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1. Ден сътворен специално за благото на човека.      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Изх. 13:13, Езек. 20:12, Мар. 2:2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1773360"/>
            <a:ext cx="496872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ъботите Ми непременно да пазите; защото това е знак между Мене и вас във всичките поколения, за да знаете, че Аз съм Господ, Който ви освеща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620640"/>
            <a:ext cx="237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Изх.31: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620640"/>
            <a:ext cx="302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Мар. 2: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4581360"/>
            <a:ext cx="44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ъботата е направена за човека, а не човек за събот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4000" y="620640"/>
            <a:ext cx="172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Пс.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13000"/>
            <a:ext cx="558000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Господ е Пастир мой; няма да остана в нужда. На зелени пасбища ме успокоява; при тихи води ме завежда. Освежава душата ми; води ме през прави пътеки заради името Си. Да! И в долината на мрачната сянка ако ходя, няма да се уплаша от зло; Защото Ти си с мене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9280" y="189000"/>
            <a:ext cx="878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Значение на Съботата за човек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13000"/>
            <a:ext cx="565164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1. Ден сътворен специално за благото на човека.      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Изх. 13:13, Езек. 20:12, Мар. 2:2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852640"/>
            <a:ext cx="5435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2. Ден на завет между Бог и човека.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Езек. 20: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3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608360" y="3486240"/>
            <a:ext cx="4535640" cy="337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79280" y="189000"/>
            <a:ext cx="878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Значение на Съботата за човек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68280"/>
            <a:ext cx="565164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1. Ден сътворен специално за благото на човека.      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Изх. 13:13, Езек. 20:12, Мар. 2:2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938320"/>
            <a:ext cx="5435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2. Ден на завет между Бог и човека.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Езек. 20: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30704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3. Ден, който за всеки, който го приеме се явява паметник на спасителна почивка.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Ев. 4: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6610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4. Ден, който се явява, като външен знак за избор на живот единствено чрез вя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71640" y="112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Изход 20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2421000"/>
            <a:ext cx="3961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з съм Иеова твоя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, К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й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те изведох 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Египетс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та земя,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з дом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робст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71640" y="981000"/>
            <a:ext cx="4032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Събот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почив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2924280"/>
            <a:ext cx="446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ко Ме любите, ще пазите Моите запове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69228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6890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Иоан 14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64000" y="839880"/>
            <a:ext cx="558000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гато изпълним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ър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 че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поведи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ие преживявам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оворождение, а с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зи опитност при нас идва и Бож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да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люб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агап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е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й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ни да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ил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люд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м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ослед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 шест запове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 -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лю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ш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лиж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03280" y="836640"/>
            <a:ext cx="4464000" cy="68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това благовестие на царството ще бъде проповядвано по цялата вселена за свидетелство на всичките народи; и тогава ще дойде свършекъ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bg-BG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bg-BG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Мат.24: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3430440"/>
            <a:ext cx="4572000" cy="342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445000"/>
            <a:ext cx="9144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0" i="1" lang="bg-BG" sz="2800" spc="-1" strike="noStrike">
                <a:solidFill>
                  <a:srgbClr val="ffffcc"/>
                </a:solidFill>
                <a:latin typeface="Tahoma"/>
              </a:rPr>
              <a:t>Оня, Който с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видетелству</a:t>
            </a:r>
            <a:r>
              <a:rPr b="0" i="1" lang="bg-BG" sz="2800" spc="-1" strike="noStrike">
                <a:solidFill>
                  <a:srgbClr val="ffffcc"/>
                </a:solidFill>
                <a:latin typeface="Tahoma"/>
              </a:rPr>
              <a:t>ва за това, казва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bg-BG" sz="2800" spc="-1" strike="noStrike">
                <a:solidFill>
                  <a:srgbClr val="ffffcc"/>
                </a:solidFill>
                <a:latin typeface="Tahoma"/>
              </a:rPr>
              <a:t>наистина ида скоро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! Амин. </a:t>
            </a:r>
            <a:r>
              <a:rPr b="0" i="1" lang="bg-BG" sz="2800" spc="-1" strike="noStrike">
                <a:solidFill>
                  <a:srgbClr val="ffffcc"/>
                </a:solidFill>
                <a:latin typeface="Tahoma"/>
              </a:rPr>
              <a:t>Дойди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, Господи Исусе! Благодат</a:t>
            </a:r>
            <a:r>
              <a:rPr b="0" i="1" lang="bg-BG" sz="28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 Господа Исуса Христа </a:t>
            </a:r>
            <a:r>
              <a:rPr b="0" i="1" lang="bg-BG" sz="2800" spc="-1" strike="noStrike">
                <a:solidFill>
                  <a:srgbClr val="ffffcc"/>
                </a:solidFill>
                <a:latin typeface="Tahoma"/>
              </a:rPr>
              <a:t>да бъде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i="1" lang="bg-BG" sz="2800" spc="-1" strike="noStrike">
                <a:solidFill>
                  <a:srgbClr val="ffffcc"/>
                </a:solidFill>
                <a:latin typeface="Tahoma"/>
              </a:rPr>
              <a:t>ъс светиите. Амин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2637000"/>
            <a:ext cx="4681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ойдете при Мене всички, които се трудите и сте обременени, и Аз ще ви успокоя.           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692280"/>
            <a:ext cx="23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Мат.11: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1197000"/>
            <a:ext cx="691344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.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 сам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 почивка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лото 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ума.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я не е сам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клон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г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м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пително знач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предел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ръзка 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Евангел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554040"/>
            <a:ext cx="7812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 Бог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тделил Съб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ив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ест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во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шено з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ършен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 на с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вор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г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и е починал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за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ршвайк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то дел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т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руг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т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Адам и Ев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карал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о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п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иващи в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ж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б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та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177336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. Подобн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 с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вор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спас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 започва с почивка в съвършен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вършен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а не с де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413000"/>
            <a:ext cx="698328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4. Ка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о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за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шил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вор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рая н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ше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 и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и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инал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седм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, така Той завършил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пл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а к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края на шестия д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и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инал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гро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седм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620640"/>
            <a:ext cx="756144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5. Ког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грех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т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лезъл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 наш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 свя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й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унищожил п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воначалн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ж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 намер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почив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Човечест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т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ло против Бога и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аправил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цен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 сво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 собствен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ело собствен д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 почив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—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дел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1052640"/>
            <a:ext cx="73454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6. Окончателн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и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в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ели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борба ще се вод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между спас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чре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(симво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явя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ж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б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а) и спас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 чре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ла (симво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явя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 неделя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установ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от хор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1125360"/>
            <a:ext cx="7308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7. В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чк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о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рез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ма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Евангел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рябва да влеза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Бо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ител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ив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зна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явя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(Евр. 4:2,3; И</a:t>
            </a:r>
            <a:r>
              <a:rPr b="0" i="1" lang="bg-BG" sz="3600" spc="-1" strike="noStrike">
                <a:solidFill>
                  <a:srgbClr val="ff9900"/>
                </a:solidFill>
                <a:latin typeface="Tahoma"/>
              </a:rPr>
              <a:t>з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х. 31:13; Езек. 20:12; Ис. 58:13,14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-27000"/>
            <a:ext cx="7885080" cy="72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8. В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к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който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люд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ади спас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кривява същността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ив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к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лю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ването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 средст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ие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е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лизам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Бо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т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ив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В 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къв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луч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й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 у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повавам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а 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шено завършеното дело на Христос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ка ние щ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едставям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като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редст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чре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ла, тоест като бре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-27000"/>
            <a:ext cx="788508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9. В окончател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р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щ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оти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поставен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 две груп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 не дв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различни почивни дн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а два противополож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метод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Конфлик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т ще бъд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между седм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 —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имволизиращ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е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динствено чрез вяр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и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деля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имволизиращ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е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рез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ов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шк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усил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1004760"/>
            <a:ext cx="78120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0. Ког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 тез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ва противополож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метод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се изявя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тог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 истинск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знач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ъб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също ще с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ояви ясно. В 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рем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лю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ването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щ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тане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00720" y="1341360"/>
            <a:ext cx="46432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на нас се донесе едно благовестие, както и на тях; но словото, което те чуха, не ги ползва, понеже не се съедини чрез вяра в ония, които го чуха. Затова ние, повярвалите, влизаме в тая почивка;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620640"/>
            <a:ext cx="23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Евр.4: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189000"/>
            <a:ext cx="784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Значение на Съботата за Бог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1052640"/>
            <a:ext cx="532908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1. Ден, който принадлежи единствено на Бога.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Ис.58:13, Изх.31:13, Изх.20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2492280"/>
            <a:ext cx="669780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2. Ден за ознаменуване на завършването на Своето съвършено дело на сътворение.                                              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Бит.1:31, 2:1-3, Евр.4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0" y="4365720"/>
            <a:ext cx="93614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3. Ден,в който Исус след като извършва Своето изкупително дело, си почива.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Йн.17:4 19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5373720"/>
            <a:ext cx="9361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4. Ден, който е свързан с Христовото дело на възстановяване в края на Неговата небесна служба. </a:t>
            </a:r>
            <a:r>
              <a:rPr b="0" i="1" lang="bg-BG" sz="2400" spc="-1" strike="noStrike">
                <a:solidFill>
                  <a:srgbClr val="ff9900"/>
                </a:solidFill>
                <a:latin typeface="Tahoma"/>
              </a:rPr>
              <a:t>Ис.66:22,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-27000"/>
            <a:ext cx="485928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, както новото небе и новата земя, които Аз ще направя, ще пребъдат пред Мене, казва Господ, така ще пребъде родът ви и името ви. И от новолуние до новолуние, и от събота до събота, ще дохожда всяка твар да се покланя пред Мене, казва Господ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Ис.66:22,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3708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8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1628640"/>
            <a:ext cx="4464000" cy="433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«Господ</a:t>
            </a:r>
            <a:r>
              <a:rPr b="0" lang="bg-BG" sz="6600" spc="-1" strike="noStrike">
                <a:solidFill>
                  <a:srgbClr val="ffffcc"/>
                </a:solidFill>
                <a:latin typeface="Tahoma"/>
              </a:rPr>
              <a:t>ар на</a:t>
            </a: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6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бот</a:t>
            </a:r>
            <a:r>
              <a:rPr b="0" lang="bg-BG" sz="6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9900"/>
                </a:solidFill>
                <a:latin typeface="Tahoma"/>
              </a:rPr>
              <a:t>Мар. 2:28; Лк. 6:5; Откр. 1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916280"/>
            <a:ext cx="3960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ледователно, за Божиите люде остава една съботна почив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[саббатисмос, "покой"]»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620640"/>
            <a:ext cx="273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Tahoma"/>
              </a:rPr>
              <a:t>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Евр. 4:9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7:52:30Z</dcterms:created>
  <dc:creator>Peter</dc:creator>
  <dc:description/>
  <dc:language>en-US</dc:language>
  <cp:lastModifiedBy>Peter</cp:lastModifiedBy>
  <dcterms:modified xsi:type="dcterms:W3CDTF">2003-09-18T06:33:51Z</dcterms:modified>
  <cp:revision>8</cp:revision>
  <dc:subject/>
  <dc:title>Slide 1</dc:title>
</cp:coreProperties>
</file>